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C40A-DAA8-4CD1-8C00-12F6FCB62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E79-AB3C-418A-944D-C0DAE6BD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F277-2614-4BA8-97BB-4FF030A9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460D-7E11-49F7-B8DA-C43D03CF2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D34-99D9-46F6-98F9-92D9361C1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EEF-F626-46C0-A78F-43148E420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B58-37D4-41E3-81DE-E4433053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8A61F-DA0D-4B96-AC26-423C32BE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66A6-F929-4C9A-9FFD-7186FC25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BC9-1B88-4AB5-B1E0-C1AB7C3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D01A-4D06-4E2F-80DD-CD3E059C8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0827-1D78-4E4C-BE6C-C1B8BDC97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45A30-7CEC-49FA-84D9-D71A12F80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425520"/>
            <a:ext cx="6098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838760" y="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0692a"/>
                </a:solidFill>
                <a:latin typeface="BN Stile Project"/>
              </a:rPr>
              <a:t>L’APPEL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24280" y="2667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692a"/>
                </a:solidFill>
                <a:latin typeface="BN Stile Project"/>
              </a:rPr>
              <a:t>CTHUL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24280" y="628560"/>
            <a:ext cx="2133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800" spc="-1" strike="noStrike">
                <a:solidFill>
                  <a:srgbClr val="000000"/>
                </a:solidFill>
                <a:latin typeface="Verdana"/>
              </a:rPr>
              <a:t>FEUILLE DE PERSONN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2286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9692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NOM DU PERSONNA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22860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19692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NOM DU JOUEUR/JOUEU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457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5520"/>
            <a:ext cx="2133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PROFESS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57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45720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425520"/>
            <a:ext cx="1295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POINTS D’EXPERI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85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685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685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33720" y="685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685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685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685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54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654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SEX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654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TAI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654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654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YEU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654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CHEVEUX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6541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P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320" y="98748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6320" y="113976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FOR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9716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F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6320" y="133020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148284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DEXTERI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320" y="1314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167328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14480" y="1825560"/>
            <a:ext cx="9907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CONSTITU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320" y="16574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201600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76320" y="216864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INTELLIGENC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320" y="20001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235908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320" y="251136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SAGE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320" y="234324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SA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320" y="2701800"/>
            <a:ext cx="609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285444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CHARIS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6320" y="2685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CH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96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23960" y="13334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23960" y="16765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3960" y="20192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23960" y="23623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23960" y="27050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4300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13334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43000" y="16765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20192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43000" y="23623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27050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84780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SCO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04840" y="84780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62040" y="990720"/>
            <a:ext cx="38124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62040" y="133344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62040" y="1676520"/>
            <a:ext cx="38124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562040" y="201924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62040" y="2362320"/>
            <a:ext cx="38124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62040" y="270504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1080" y="990720"/>
            <a:ext cx="38124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1080" y="133344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1676520"/>
            <a:ext cx="38124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1080" y="201924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81080" y="2362320"/>
            <a:ext cx="38124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81080" y="270504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23880" y="812880"/>
            <a:ext cx="457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EMP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SCO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33560" y="812880"/>
            <a:ext cx="457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EMP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987480"/>
            <a:ext cx="609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113976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POINTS DE VI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438280" y="97164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PD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8628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84780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05320" y="990720"/>
            <a:ext cx="7617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847800"/>
            <a:ext cx="76176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SCORE COURAN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05240" y="9907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05240" y="847800"/>
            <a:ext cx="7621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DOMMAGE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105520" y="9907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029200" y="847800"/>
            <a:ext cx="5335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VITES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24560" y="990720"/>
            <a:ext cx="118116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14840" y="847800"/>
            <a:ext cx="11908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00" spc="-1" strike="noStrike">
                <a:solidFill>
                  <a:srgbClr val="000000"/>
                </a:solidFill>
                <a:latin typeface="Verdana"/>
              </a:rPr>
              <a:t>SANTE MENTALE ACTUELL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524560" y="144792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429160" y="1295280"/>
            <a:ext cx="571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00" spc="-1" strike="noStrike">
                <a:solidFill>
                  <a:srgbClr val="000000"/>
                </a:solidFill>
                <a:latin typeface="Verdana"/>
              </a:rPr>
              <a:t>SAN MAX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1447920"/>
            <a:ext cx="76212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39000" y="1295280"/>
            <a:ext cx="5713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00" spc="-1" strike="noStrike">
                <a:solidFill>
                  <a:srgbClr val="000000"/>
                </a:solidFill>
                <a:latin typeface="Verdana"/>
              </a:rPr>
              <a:t>20% SAN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1330200"/>
            <a:ext cx="609840" cy="42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362320" y="1522440"/>
            <a:ext cx="761760" cy="2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CLASS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ARM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13143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86280" y="13334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160956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429000" y="13716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fr-BE" sz="8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86200" y="13334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91120" y="1371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381560" y="13334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86480" y="1371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33344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57760" y="1647720"/>
            <a:ext cx="45720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BONUS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ARMU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267080" y="1647720"/>
            <a:ext cx="60984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DEXTERI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62440" y="1647720"/>
            <a:ext cx="60984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AUT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320" y="3222720"/>
            <a:ext cx="10666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32068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INITI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3368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MODIFICATEU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81160" y="322596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308628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86080" y="32637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676520" y="322596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81080" y="32637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71880" y="322596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62040" y="3048120"/>
            <a:ext cx="60984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DEXTERI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7400" y="3048120"/>
            <a:ext cx="6094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AUT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3568680"/>
            <a:ext cx="16761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320" y="355608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ATTAQUE DE BA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00" y="3718080"/>
            <a:ext cx="16858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BONU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0640" y="3568680"/>
            <a:ext cx="7621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8280" y="2006640"/>
            <a:ext cx="10670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38280" y="19908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VIGU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2152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(CONSTITU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543480" y="200988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48040" y="20480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38480" y="200988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20480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33840" y="200988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43480" y="2352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848040" y="23907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038480" y="23526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343400" y="23907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33840" y="23526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438280" y="2355840"/>
            <a:ext cx="10670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438280" y="23400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REFLE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14600" y="25020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(DEXTERIT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43480" y="269568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848040" y="27338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8480" y="269568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7338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33840" y="2695680"/>
            <a:ext cx="38124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38280" y="2698920"/>
            <a:ext cx="106704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8280" y="268272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VOLO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514600" y="28447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(SAGESS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05320" y="186696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38760" y="20480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29200" y="200988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38760" y="23907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9200" y="2352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38760" y="27338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69568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20480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24560" y="200988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4120" y="23907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24560" y="23526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334120" y="27338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524560" y="2695680"/>
            <a:ext cx="3808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29480" y="20480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9920" y="2009880"/>
            <a:ext cx="38088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9480" y="23907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19920" y="2352600"/>
            <a:ext cx="38088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829480" y="27338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2695680"/>
            <a:ext cx="38088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33720" y="1828800"/>
            <a:ext cx="609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SCO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DE BA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9720" y="182880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CARACT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152280" y="847800"/>
            <a:ext cx="10666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00" spc="-1" strike="noStrike">
                <a:solidFill>
                  <a:srgbClr val="000000"/>
                </a:solidFill>
                <a:latin typeface="Verdana"/>
              </a:rPr>
              <a:t>CARACTERISTIQU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915080" y="182880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AGIQU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10080" y="1828800"/>
            <a:ext cx="609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AUT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896080" y="182880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EMPORAI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320" y="4098960"/>
            <a:ext cx="10666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32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MELE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6320" y="40734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BONUS D’ATTAQUE D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20" y="4435560"/>
            <a:ext cx="1066680" cy="304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320" y="4527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DIST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320" y="4410000"/>
            <a:ext cx="10666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BONUS D’ATTAQUE A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1160" y="409572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486080" y="41338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409572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981080" y="41338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71880" y="409572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476440" y="41338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666880" y="409572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81160" y="44290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86080" y="44672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6520" y="44290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81080" y="44672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71880" y="44290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76440" y="44672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2908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143000" y="395280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71760" y="390852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SCO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DE BA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7400" y="3914640"/>
            <a:ext cx="6094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FORC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2760" y="390528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AUT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571760" y="474660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SCO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DE BAS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57400" y="474660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DEXTERIT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74336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AUT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413388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62240" y="409572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71800" y="447660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62240" y="4438800"/>
            <a:ext cx="381240" cy="30456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8120" y="390528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EMPORAI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8120" y="474336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EMPORAI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57600" y="3124080"/>
            <a:ext cx="31240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34290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34290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38680" y="3429000"/>
            <a:ext cx="3812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257800" y="34290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342900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3429000"/>
            <a:ext cx="10670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3429000"/>
            <a:ext cx="1522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95760" y="3809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334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1500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95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7712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446800" y="38084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830920" y="38019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11800" y="3801960"/>
            <a:ext cx="3812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695760" y="3962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70200"/>
            <a:ext cx="106704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500" spc="-1" strike="noStrike">
                <a:solidFill>
                  <a:srgbClr val="000000"/>
                </a:solidFill>
                <a:latin typeface="Verdana"/>
              </a:rPr>
              <a:t>JETS DE SAUVEGARD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09880" y="31654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COMPETEN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00800" y="3124080"/>
            <a:ext cx="38088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172200" y="3162240"/>
            <a:ext cx="56196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4419720"/>
            <a:ext cx="4572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91280" y="316224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40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15000" y="40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5880" y="40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46800" y="39592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30920" y="3952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211800" y="3952800"/>
            <a:ext cx="38124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7712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47712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7712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7712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47712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47712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47712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7712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47712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477120" y="6781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77120" y="6934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7086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477120" y="7238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47712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77120" y="7696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7848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8001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815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77120" y="830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8458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77120" y="8610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477120" y="8763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477120" y="8915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477120" y="9067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9220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9372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9524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9677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95760" y="4114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4120" y="418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15000" y="4189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46800" y="41115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30920" y="41054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210360" y="4114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334120" y="4341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4341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46800" y="4264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30920" y="42577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10360" y="42670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334120" y="4494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715000" y="4494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58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46800" y="44164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30920" y="4410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210360" y="44197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334120" y="464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5000" y="4646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0958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446800" y="45687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830920" y="45626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210360" y="4572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34120" y="4799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5000" y="4799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446800" y="47214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30920" y="47149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210360" y="47242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34120" y="4951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715000" y="4951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5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446800" y="48736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830920" y="4867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210360" y="48769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34120" y="510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715000" y="510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095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46800" y="50259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830920" y="50198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10360" y="5029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334120" y="5256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715000" y="5256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9588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46800" y="51786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30920" y="51721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10360" y="51814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4120" y="5408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15000" y="5408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446800" y="53308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830920" y="53244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53341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334120" y="556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715000" y="5560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9588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46800" y="54831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30920" y="54770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210360" y="54864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571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715000" y="5713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9588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446800" y="5635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830920" y="56293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10360" y="56386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5865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15000" y="5865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588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446800" y="57880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30920" y="57816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10360" y="57913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334120" y="601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715000" y="601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5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446800" y="59403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30920" y="59342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210360" y="59436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4120" y="6170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715000" y="6170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0958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46800" y="6093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830920" y="60865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210360" y="60958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334120" y="6323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15000" y="6323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588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446800" y="62452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30920" y="6238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210360" y="62485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334120" y="647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715000" y="647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588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446800" y="63975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830920" y="63914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10360" y="6400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4120" y="6627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6627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09588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46800" y="6550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30920" y="65437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210360" y="65530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334120" y="6780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15000" y="6780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5880" y="6781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46800" y="67024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830920" y="6696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210360" y="67057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334120" y="693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6932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095880" y="6934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446800" y="68547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30920" y="68486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210360" y="6858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34120" y="7085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715000" y="7085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95880" y="7086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446800" y="70074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830920" y="70009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210360" y="70102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334120" y="7237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15000" y="7237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5880" y="7238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46800" y="71596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30920" y="7153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10360" y="71629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334120" y="738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715000" y="738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09588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46800" y="73119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830920" y="73058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10360" y="7315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34120" y="7542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15000" y="7542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09588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46800" y="74646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30920" y="74581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10360" y="74674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769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715000" y="7694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5880" y="7696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46800" y="76168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830920" y="76104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210360" y="76201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334120" y="784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7846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095880" y="7848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446800" y="77691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830920" y="77630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210360" y="77724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334120" y="7999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715000" y="79995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95880" y="8001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46800" y="7921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830920" y="79153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210360" y="79246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34120" y="8151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715000" y="81518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5880" y="815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446800" y="80740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30920" y="80676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210360" y="80773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334120" y="830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715000" y="8304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830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446800" y="82263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30920" y="82202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210360" y="82296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8456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715000" y="8456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095880" y="8458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446800" y="8379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830920" y="83725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10360" y="83818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34120" y="8609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715000" y="8609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5880" y="8610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446800" y="85312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830920" y="8524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10360" y="85345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334120" y="876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715000" y="8761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095880" y="8763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46800" y="86835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830920" y="86774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210360" y="86868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334120" y="8913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715000" y="89139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5880" y="8915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446800" y="8836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30920" y="88297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210360" y="88390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334120" y="906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715000" y="9066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5880" y="9067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446800" y="89884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830920" y="8982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10360" y="89917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921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715000" y="9218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095880" y="9220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46800" y="91407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830920" y="91346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10360" y="91440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334120" y="9371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715000" y="93711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095880" y="9372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446800" y="92934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5830920" y="92869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210360" y="92962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334120" y="9523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9523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095880" y="9524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46800" y="944568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830920" y="9439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210360" y="944892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9675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715000" y="9675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95880" y="9677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46800" y="959796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830920" y="959184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10360" y="9601200"/>
            <a:ext cx="38088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695760" y="42670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697200" y="44197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695760" y="4572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695760" y="47242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95760" y="4876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95760" y="5029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697200" y="5181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695760" y="53341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695760" y="5486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695760" y="56386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695760" y="57913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697200" y="5943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695760" y="6095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695760" y="6248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695760" y="6400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695760" y="65530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697200" y="67057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695760" y="6858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695760" y="70102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95760" y="7162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695760" y="7315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697200" y="74674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695760" y="76201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95760" y="77724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695760" y="79246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695760" y="80773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697200" y="82296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695760" y="83818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697200" y="85345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695760" y="86868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3695760" y="88390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695760" y="89917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695760" y="91440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697200" y="929628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695760" y="9448920"/>
            <a:ext cx="76320" cy="75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695760" y="9601200"/>
            <a:ext cx="76320" cy="76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33920" y="9591840"/>
            <a:ext cx="121896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09880" y="3505320"/>
            <a:ext cx="106704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756320" y="346716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CARACT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145120" y="3467160"/>
            <a:ext cx="6094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SCO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COMP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5530680" y="3468600"/>
            <a:ext cx="60984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CARACT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11920" y="3467160"/>
            <a:ext cx="60948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NIVEAU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296040" y="3473280"/>
            <a:ext cx="609480" cy="2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AUT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715000" y="3184560"/>
            <a:ext cx="512640" cy="32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NIVEAU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MAX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76440" y="327024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800" spc="-1" strike="noStrike">
                <a:solidFill>
                  <a:srgbClr val="000000"/>
                </a:solidFill>
                <a:latin typeface="Verdana"/>
              </a:rPr>
              <a:t>+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666880" y="3232080"/>
            <a:ext cx="381240" cy="3049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550960" y="3048120"/>
            <a:ext cx="609840" cy="2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MODIF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EMPORAIRE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138320" y="4708440"/>
            <a:ext cx="457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TOTA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962440" y="5257800"/>
            <a:ext cx="581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381400" y="5257800"/>
            <a:ext cx="581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600200" y="5257800"/>
            <a:ext cx="781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6320" y="525780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6320" y="495288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1600200" y="5105520"/>
            <a:ext cx="194472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381400" y="5105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62440" y="5105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600200" y="49528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6320" y="49528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6320" y="563868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6320" y="5486400"/>
            <a:ext cx="346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990720" y="5638680"/>
            <a:ext cx="581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520" y="563868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571760" y="563868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28960" y="5638680"/>
            <a:ext cx="1511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028960" y="5486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571760" y="5486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990720" y="5486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33520" y="5486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523880" y="510228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BONUS ATTA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86000" y="509580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DOMM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52720" y="509580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CRITI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8440" y="548316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PORT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95360" y="547704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9800" y="5483160"/>
            <a:ext cx="53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Y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533600" y="5477040"/>
            <a:ext cx="53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AI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057400" y="547704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PROPRIETES SPE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962440" y="6248520"/>
            <a:ext cx="581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2381400" y="6248520"/>
            <a:ext cx="581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0200" y="6248520"/>
            <a:ext cx="781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76320" y="624852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76320" y="5943600"/>
            <a:ext cx="15238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600200" y="6095880"/>
            <a:ext cx="194472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38140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62440" y="60958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600200" y="5943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59436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AR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7632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6477120"/>
            <a:ext cx="346860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990720" y="6629400"/>
            <a:ext cx="581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53352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571760" y="6629400"/>
            <a:ext cx="4572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028960" y="6629400"/>
            <a:ext cx="1511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028960" y="6477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571760" y="6477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990720" y="6477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33520" y="64771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523880" y="60930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BONUS ATTA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286000" y="6086520"/>
            <a:ext cx="762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DOMMAG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952720" y="6086520"/>
            <a:ext cx="6094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CRITIQU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8440" y="647388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PORTE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95360" y="6467400"/>
            <a:ext cx="533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POID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009800" y="6473880"/>
            <a:ext cx="53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YP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533600" y="6467400"/>
            <a:ext cx="5331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TAILL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057400" y="6467400"/>
            <a:ext cx="14479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PROPRIETES SPECIALE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320" y="6934320"/>
            <a:ext cx="16761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320" y="6934320"/>
            <a:ext cx="167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TAL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857240" y="6934320"/>
            <a:ext cx="167652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857240" y="69343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SORTILE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76320" y="73152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74674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76201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77724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76320" y="79246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80773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6320" y="8229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6320" y="83818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76320" y="853452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857240" y="73152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857240" y="7467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857240" y="76201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857240" y="7772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857240" y="79246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857240" y="80773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1857240" y="82296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857240" y="8381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857240" y="853452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6320" y="8620200"/>
            <a:ext cx="345420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95400" y="86202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EQUIP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76320" y="9001080"/>
            <a:ext cx="34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6320" y="9153360"/>
            <a:ext cx="34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6320" y="9306000"/>
            <a:ext cx="34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6320" y="9458280"/>
            <a:ext cx="34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76320" y="9610560"/>
            <a:ext cx="34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76320" y="9763200"/>
            <a:ext cx="345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0" y="9791640"/>
            <a:ext cx="685800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L’APPEL DE CTHULHU d20 © 2002 WIZARDS OF THE COA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809880" y="9677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52880" y="9677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09880" y="3886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952880" y="3886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809880" y="4038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038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9880" y="4191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4952880" y="4191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809880" y="4343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809880" y="4495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809880" y="4648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9528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809880" y="4800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9528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809880" y="4952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9880" y="5105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9528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09880" y="5257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4952880" y="5257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809880" y="5410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952880" y="5410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809880" y="5562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952880" y="5562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809880" y="5715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495288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3809880" y="5867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4952880" y="5867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809880" y="6019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952880" y="6019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09880" y="6172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9528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809880" y="6324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952880" y="6324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809880" y="6477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952880" y="6477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09880" y="6629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952880" y="6629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809880" y="67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952880" y="6781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809880" y="6934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952880" y="6934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809880" y="7086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52880" y="7086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809880" y="7238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4952880" y="7238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809880" y="73915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952880" y="7391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3809880" y="75438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4952880" y="7543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809880" y="7696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952880" y="7696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809880" y="78487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952880" y="7848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3809880" y="8001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4952880" y="8001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9880" y="81532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952880" y="8153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09880" y="8305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952880" y="830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809880" y="84582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952880" y="8458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09880" y="86104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52880" y="8610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3809880" y="87631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952880" y="8763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809880" y="8915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952880" y="8915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809880" y="9067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952880" y="9067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809880" y="92203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952880" y="9220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809880" y="93726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952880" y="9372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809880" y="95248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952880" y="9524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76320" y="509580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76320" y="6086520"/>
            <a:ext cx="9144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600" spc="-1" strike="noStrike">
                <a:solidFill>
                  <a:srgbClr val="ffffff"/>
                </a:solidFill>
                <a:latin typeface="Verdana"/>
              </a:rPr>
              <a:t>DESCRIPTI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0"/>
            <a:ext cx="6858000" cy="99061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9791640"/>
            <a:ext cx="6858000" cy="1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5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500" spc="-1" strike="noStrike">
                <a:solidFill>
                  <a:srgbClr val="000000"/>
                </a:solidFill>
                <a:latin typeface="Verdana"/>
              </a:rPr>
              <a:t>L’APPEL DE CTHULHU d20 © 2002 WIZARDS OF THE COAS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76320" y="76320"/>
            <a:ext cx="35049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6320" y="76320"/>
            <a:ext cx="3504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EQUIPEMENT SUPPLEMEN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6320" y="4572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320" y="6094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6320" y="7621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6320" y="914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320" y="1066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320" y="1219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320" y="13716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6320" y="1523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6320" y="16765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6320" y="18288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320" y="19810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320" y="21337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320" y="22860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6320" y="24382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6320" y="25909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6320" y="27432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320" y="28954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6320" y="30481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6320" y="3200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6320" y="3352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733920" y="76320"/>
            <a:ext cx="30477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267080" y="457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733920" y="7632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REVENUS ET BIE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657600" y="360360"/>
            <a:ext cx="106668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000000"/>
                </a:solidFill>
                <a:latin typeface="Verdana"/>
              </a:rPr>
              <a:t>REVENU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343400" y="609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57600" y="520560"/>
            <a:ext cx="106668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000000"/>
                </a:solidFill>
                <a:latin typeface="Verdana"/>
              </a:rPr>
              <a:t>ECONOMI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4343400" y="762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3657600" y="673200"/>
            <a:ext cx="106668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000000"/>
                </a:solidFill>
                <a:latin typeface="Verdana"/>
              </a:rPr>
              <a:t>LIQUIDI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724280" y="9144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657600" y="825480"/>
            <a:ext cx="129528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000000"/>
                </a:solidFill>
                <a:latin typeface="Verdana"/>
              </a:rPr>
              <a:t>BIENS PERSONNEL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733920" y="1066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3733920" y="12193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733920" y="13716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3733920" y="1523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3733920" y="16765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3733920" y="1752480"/>
            <a:ext cx="30477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733920" y="1752480"/>
            <a:ext cx="3047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INFORMATIONS PERSONN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724280" y="21337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657600" y="2043000"/>
            <a:ext cx="129528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000000"/>
                </a:solidFill>
                <a:latin typeface="Verdana"/>
              </a:rPr>
              <a:t>LIEU DE RESIDEN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419720" y="22860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657600" y="2189160"/>
            <a:ext cx="129528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000000"/>
                </a:solidFill>
                <a:latin typeface="Verdana"/>
              </a:rPr>
              <a:t>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733920" y="24382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733920" y="25909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27432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657600" y="2805120"/>
            <a:ext cx="1295280" cy="1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700" spc="-1" strike="noStrike">
                <a:solidFill>
                  <a:srgbClr val="000000"/>
                </a:solidFill>
                <a:latin typeface="Verdana"/>
              </a:rPr>
              <a:t>FAMILLE ET AM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572000" y="2895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33920" y="304812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733920" y="3200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733920" y="33526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6320" y="3429000"/>
            <a:ext cx="67053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6320" y="342900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000" spc="-1" strike="noStrike">
                <a:solidFill>
                  <a:srgbClr val="ffffff"/>
                </a:solidFill>
                <a:latin typeface="Arial Black"/>
              </a:rPr>
              <a:t>HISTORIQUE DU PERSONN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6320" y="3809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76320" y="39625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76320" y="41148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76320" y="42670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6320" y="44197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6320" y="45720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6320" y="47242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6320" y="48769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6320" y="50292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6320" y="51814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76320" y="53341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76320" y="5486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6320" y="5638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6320" y="5791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6320" y="59436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6320" y="6095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6320" y="62485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6320" y="64008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320" y="65530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6320" y="67057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57600" y="3733920"/>
            <a:ext cx="3124080" cy="297180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76320" y="6781680"/>
            <a:ext cx="6705360" cy="228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76320" y="6781680"/>
            <a:ext cx="6705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 Black"/>
              </a:rPr>
              <a:t>OBJETS MAGIQUES / SORTILEGES CONNUS / CREATURES DU MYT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276720" y="71629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276720" y="73152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276720" y="74674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276720" y="76201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276720" y="77724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276720" y="79246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276720" y="80773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3276720" y="82296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276720" y="83818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276720" y="85345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276720" y="86868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276720" y="88390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276720" y="89917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276720" y="91440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276720" y="92962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276720" y="944892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76720" y="960120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276720" y="9753480"/>
            <a:ext cx="350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7086600"/>
            <a:ext cx="3124080" cy="266688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7T12:23:33Z</dcterms:created>
  <dc:creator>Jean-Pierre Lheureux</dc:creator>
  <dc:description/>
  <dc:language>en-US</dc:language>
  <cp:lastModifiedBy>Jean-Pierre Lheureux</cp:lastModifiedBy>
  <dcterms:modified xsi:type="dcterms:W3CDTF">2003-02-19T14:42:11Z</dcterms:modified>
  <cp:revision>58</cp:revision>
  <dc:subject/>
  <dc:title>PowerPoint Presentation</dc:title>
</cp:coreProperties>
</file>