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D89-9D00-45F6-8071-3CF69467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6E8-1D03-4975-B689-2DF3B52D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250-1C85-4682-9F4C-FB898D5E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0D4-6F89-451E-A3E3-3ACEC129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C40-362E-40B9-B4D1-B22A9DB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C58-4E0A-4218-835E-E331C9BD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6C1-0ADB-4826-9E66-EC4DDD66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2BF-560C-469F-BF8A-82DFD033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1B7-F40C-45BD-AFD9-82833FD6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3ED-CADA-4BAF-9A2F-31F510A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DEF-D445-40F7-9665-A8C87DF0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D27-BA86-411A-882A-860122C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B2B0-3501-4C54-BD82-0A7EB4213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320"/>
            <a:ext cx="1371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Nom du Personnage</a:t>
            </a: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7632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Nom du Jou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57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457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Profe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0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Nivea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80880"/>
            <a:ext cx="83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Expéri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762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762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762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762120"/>
            <a:ext cx="5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858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685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Sex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85840" y="6858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Tail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6858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Poi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858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Cheveu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6858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Yeu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6858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pperplate Gothic BT"/>
              </a:rPr>
              <a:t>Pea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44792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pperplate Gothic BT"/>
              </a:rPr>
              <a:t>Photograph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17648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914400"/>
            <a:ext cx="1904760" cy="243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4648320"/>
            <a:ext cx="38098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352680"/>
            <a:ext cx="380988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68580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Sherwood Regular"/>
              </a:rPr>
              <a:t>FICHE D’INVESTIGATE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54560" y="1371600"/>
            <a:ext cx="332712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637560"/>
            <a:ext cx="3886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erplate Gothic BT"/>
              </a:rPr>
              <a:t>FEUILLE DE PERSONNAGE POUR L’APPEL DE CTHULHU (d20 SYSTE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57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152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360" y="762120"/>
            <a:ext cx="501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70080" y="762120"/>
            <a:ext cx="519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49320" y="762120"/>
            <a:ext cx="511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752480"/>
            <a:ext cx="53352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constitu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17648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6560" y="1035000"/>
            <a:ext cx="38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erplate Gothic BT"/>
              </a:rPr>
              <a:t>VALE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1800" y="941400"/>
            <a:ext cx="3812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opperplate Gothic BT"/>
              </a:rPr>
              <a:t>Pénalité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opperplate Gothic BT"/>
              </a:rPr>
              <a:t>tem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9520" y="103356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erplate Gothic BT"/>
              </a:rPr>
              <a:t>MODIF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143000"/>
            <a:ext cx="381240" cy="2081160"/>
          </a:xfrm>
          <a:prstGeom prst="rect">
            <a:avLst/>
          </a:prstGeom>
          <a:solidFill>
            <a:srgbClr val="b3b3b3"/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66720" y="1176480"/>
            <a:ext cx="30492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447920"/>
            <a:ext cx="53352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dextérité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143000"/>
            <a:ext cx="53352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for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2362320"/>
            <a:ext cx="53352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intellig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971800"/>
            <a:ext cx="53352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édu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2666880"/>
            <a:ext cx="53352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P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pouvoi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78596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17859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66720" y="1785960"/>
            <a:ext cx="30492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09088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209088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66720" y="2090880"/>
            <a:ext cx="30492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395440"/>
            <a:ext cx="30456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2395440"/>
            <a:ext cx="3049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66720" y="2395440"/>
            <a:ext cx="3049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0036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7003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66720" y="2700360"/>
            <a:ext cx="30492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00528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00528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66720" y="3005280"/>
            <a:ext cx="30492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38440" y="1492200"/>
            <a:ext cx="68580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P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points de v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02000" y="1558800"/>
            <a:ext cx="3049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240" y="1558800"/>
            <a:ext cx="6094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69040" y="1558800"/>
            <a:ext cx="6094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560" y="1389240"/>
            <a:ext cx="726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pv actu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8440" y="1828800"/>
            <a:ext cx="68580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classe d’arm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02000" y="182880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06920" y="1828800"/>
            <a:ext cx="45720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Copperplate Gothic BT"/>
              </a:rPr>
              <a:t> 10 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64120" y="182880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182880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1320" y="182880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82880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78520" y="182880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40240" y="1023840"/>
            <a:ext cx="91440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MODIFICATE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pperplate Gothic BT"/>
              </a:rPr>
              <a:t>D’INITI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914400"/>
            <a:ext cx="914400" cy="24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BONUS DE BA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pperplate Gothic BT"/>
              </a:rPr>
              <a:t>À L’ATTA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87800" y="20257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bonus d’arm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0560" y="20257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e dextér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02200" y="20257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ive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203040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pénalité d’arm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1271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8360" y="1136520"/>
            <a:ext cx="1443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11271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99200" y="112716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11271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91440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e dextér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91440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ive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1158840"/>
            <a:ext cx="914400" cy="20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335268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pperplate Gothic BT"/>
              </a:rPr>
              <a:t>JETS DE SAUVEGAR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657600"/>
            <a:ext cx="83844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VIGU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(constitu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962520"/>
            <a:ext cx="83844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RÉF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(dextérité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267080"/>
            <a:ext cx="83844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VOLO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(pouvoi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70044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3040" y="3710160"/>
            <a:ext cx="1447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370044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3880" y="370044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370044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540240"/>
            <a:ext cx="457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ba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514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639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e carac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1080" y="370044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0044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4639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magiq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08280" y="370044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70044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4639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ive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65480" y="370044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639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pénalité tem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35400" y="3666960"/>
            <a:ext cx="380880" cy="873360"/>
          </a:xfrm>
          <a:prstGeom prst="rect">
            <a:avLst/>
          </a:prstGeom>
          <a:solidFill>
            <a:srgbClr val="b3b3b3"/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76440" y="3700440"/>
            <a:ext cx="30492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0053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3040" y="4014720"/>
            <a:ext cx="1447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40053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3880" y="400536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40053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51080" y="400536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40053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8280" y="400536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0053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65480" y="400536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76440" y="4005360"/>
            <a:ext cx="30492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309920"/>
            <a:ext cx="3049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3040" y="4319640"/>
            <a:ext cx="1447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4309920"/>
            <a:ext cx="3049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93880" y="430992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4309920"/>
            <a:ext cx="3049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51080" y="430992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309920"/>
            <a:ext cx="3049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08280" y="430992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309920"/>
            <a:ext cx="3049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65480" y="430992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76440" y="4309920"/>
            <a:ext cx="3049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284560"/>
            <a:ext cx="2895480" cy="739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939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49560" y="2287440"/>
            <a:ext cx="1765440" cy="23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720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COMPÉ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1760" y="2282760"/>
            <a:ext cx="685800" cy="23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72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degrés de maîtrise max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96120" y="2281320"/>
            <a:ext cx="38088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67320" y="2320920"/>
            <a:ext cx="38124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T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886560" y="2286000"/>
            <a:ext cx="64080" cy="45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 anchorCtr="1" vert="eaVer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DE BA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2514600"/>
            <a:ext cx="304920" cy="2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Copperplate Gothic BT"/>
              </a:rPr>
              <a:t>caract. associé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514600"/>
            <a:ext cx="304560" cy="2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Copperplate Gothic BT"/>
              </a:rPr>
              <a:t>mod. de comp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2514600"/>
            <a:ext cx="304920" cy="2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Copperplate Gothic BT"/>
              </a:rPr>
              <a:t>mod. de caract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514600"/>
            <a:ext cx="304920" cy="2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pperplate Gothic BT"/>
              </a:rPr>
              <a:t>degré de maîtris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514600"/>
            <a:ext cx="304560" cy="2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Copperplate Gothic BT"/>
              </a:rPr>
              <a:t>mod. diver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51360" y="2514600"/>
            <a:ext cx="1306440" cy="21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pperplate Gothic BT"/>
              </a:rPr>
              <a:t>NOM DE LA COMPÉTEN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7432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Acrobaties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7640" y="276084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7432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28526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08600" y="27432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13360" y="2852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28526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14960" y="27432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16480" y="2852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18440" y="27432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28576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Blu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7640" y="28749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8576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p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29671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08600" y="28576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13360" y="29671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19960" y="29671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4960" y="28576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16480" y="29671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18440" y="28576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64832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pperplate Gothic BT"/>
              </a:rPr>
              <a:t>BONUS D’ATTA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9000" y="47401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e fo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63840" y="47401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e tai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47401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tem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47401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bonus de ba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48006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5257800"/>
            <a:ext cx="685800" cy="28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pperplate Gothic BT"/>
              </a:rPr>
              <a:t>A DI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5840" y="4986360"/>
            <a:ext cx="4557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7200" y="4995720"/>
            <a:ext cx="1447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90760" y="4986360"/>
            <a:ext cx="4316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7480" y="498636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75040" y="498636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44680" y="498636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32240" y="498636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01880" y="498636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9440" y="498636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59080" y="498636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4952880"/>
            <a:ext cx="380880" cy="568440"/>
          </a:xfrm>
          <a:prstGeom prst="rect">
            <a:avLst/>
          </a:prstGeom>
          <a:solidFill>
            <a:srgbClr val="b3b3b3"/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4986360"/>
            <a:ext cx="30456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291280"/>
            <a:ext cx="45720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55760" y="5310360"/>
            <a:ext cx="1443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90760" y="5291280"/>
            <a:ext cx="4316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87480" y="529128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75040" y="529128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4680" y="529128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32240" y="529128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01880" y="529128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89440" y="5291280"/>
            <a:ext cx="30456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9080" y="5291280"/>
            <a:ext cx="22860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70400" y="5291280"/>
            <a:ext cx="30456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1320" y="47401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ive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0548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e dex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81120" y="550548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e tai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70320" y="550548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tem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65200" y="550548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bonus de ba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28960" y="550548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mod. dive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54594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29718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se Cacher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7640" y="298944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29718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30812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08600" y="29718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13360" y="30812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19960" y="30812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14960" y="29718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16480" y="30812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18440" y="29718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30862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Comptabilit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7640" y="31035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30862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31957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08600" y="30862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13360" y="3195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19960" y="31957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4960" y="30862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16480" y="3195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18440" y="30862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32004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Concen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7640" y="321804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32004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c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80000" y="33098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08600" y="32004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13360" y="33098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19960" y="33098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14960" y="32004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16480" y="33098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18440" y="32004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33148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Conduire</a:t>
            </a: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Automob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7640" y="33321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33148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80000" y="34243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08600" y="33148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13360" y="34243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19960" y="34243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4960" y="33148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16480" y="34243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18440" y="33148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34290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Conduire Engin Lou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7640" y="344664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34290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80000" y="35384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08600" y="34290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13360" y="35384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19960" y="35384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14960" y="34290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16480" y="35384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18440" y="34290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54348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Connaissance (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7640" y="35607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5434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80000" y="36529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08600" y="3543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13360" y="36529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19960" y="36529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4960" y="3543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216480" y="36529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18440" y="35434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365760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(                       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7640" y="367524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36576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80000" y="37670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6576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13360" y="37670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19960" y="37670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4960" y="36576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16480" y="37670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8440" y="36576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377208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(                       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87640" y="3789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57800" y="37720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80000" y="38815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7720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13360" y="38815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19960" y="38815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14960" y="37720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6480" y="38815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18440" y="37720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388620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(                       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390384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8862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80000" y="39956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08600" y="38862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13360" y="3995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19960" y="39956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14960" y="38862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16480" y="3995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18440" y="38862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41148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Contrefaç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7640" y="4130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41148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80000" y="42228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08600" y="41148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13360" y="42228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19960" y="42228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14960" y="41148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16480" y="42228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18440" y="41148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2748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Créer/Fabriquer (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7640" y="42451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42274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80000" y="43369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08600" y="4227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13360" y="43369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19960" y="43369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4960" y="4227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16480" y="43369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18440" y="42274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44560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Croche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7640" y="44737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44560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80000" y="45655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08600" y="44560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13360" y="45655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19960" y="45655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14960" y="44560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16480" y="45655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18440" y="44560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62520" y="4799160"/>
            <a:ext cx="1447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Déplacement Silencieux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7640" y="48164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47991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80000" y="49086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08600" y="47991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13360" y="49086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19960" y="49086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14960" y="47991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16480" y="49086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18440" y="47991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62520" y="49132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Désamorcer/Sab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7640" y="4930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57800" y="49132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80000" y="50227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08600" y="49132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3360" y="5022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19960" y="50227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14960" y="49132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16480" y="5022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18440" y="49132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502776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Détec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87640" y="5045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50277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p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80000" y="51372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08600" y="50277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13360" y="51372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19960" y="51372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14960" y="50277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16480" y="51372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18440" y="50277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51418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Diplom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7640" y="5159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51418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p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80000" y="52513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08600" y="51418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13360" y="52513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19960" y="52513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14960" y="51418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16480" y="52513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18440" y="51418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525636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se Docum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7640" y="527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2563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3658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08600" y="52563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13360" y="53658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19960" y="53658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14960" y="52563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16480" y="53658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18440" y="52563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53704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Dr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7640" y="53881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53704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p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80000" y="54799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08600" y="5370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13360" y="54799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9960" y="54799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14960" y="5370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480" y="54799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18440" y="53704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62520" y="548496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Ec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7640" y="55022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54849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p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80000" y="55944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8600" y="54849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13360" y="55944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19960" y="55944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14960" y="54849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16480" y="55944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18440" y="54849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55990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Empathie avec Anima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7640" y="56167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55990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p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80000" y="57085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8600" y="55990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13360" y="57085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19960" y="57085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14960" y="55990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16480" y="57085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18440" y="55990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571356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Equilibre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87640" y="57308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57800" y="57135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80000" y="58230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08600" y="57135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13360" y="58230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519960" y="58230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14960" y="57135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216480" y="58230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8440" y="57135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58356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Equ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7640" y="585324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58356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80000" y="59450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08600" y="58356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13360" y="59450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19960" y="59450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14960" y="58356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16480" y="59450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58356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595476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s’Ev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7640" y="5972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59547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80000" y="60642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08600" y="59547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13360" y="60642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19960" y="60642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14960" y="59547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16480" y="60642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418440" y="59547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62520" y="60688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Focalisation Psych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87640" y="60865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57800" y="60688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p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580000" y="617868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08600" y="60688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13360" y="61786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19960" y="61786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4960" y="60688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16480" y="61786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418440" y="60688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618336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Fouiller/Déce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87640" y="6200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57800" y="61833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62928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08600" y="61833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13360" y="62928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519960" y="62928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114960" y="61833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16480" y="62928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18440" y="61833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62974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Grimper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7640" y="63151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57800" y="62974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f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80000" y="640728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08600" y="6297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13360" y="64072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19960" y="6407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14960" y="6297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16480" y="64072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8440" y="62974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641196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Identifier les S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7640" y="64292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57800" y="64119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80000" y="65214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08600" y="64119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13360" y="65214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19960" y="65214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14960" y="64119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16480" y="65214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18440" y="64119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65260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[Informatique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7640" y="6543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57800" y="65260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580000" y="663588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08600" y="65260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13360" y="66358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519960" y="66358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14960" y="65260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16480" y="66358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18440" y="65260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62520" y="664056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s’Informer (or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87640" y="66578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57800" y="66405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p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67500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08600" y="66405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13360" y="67500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519960" y="67500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14960" y="66405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16480" y="67500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18440" y="66405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67546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Intim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87640" y="67723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57800" y="67546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p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80000" y="686448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808600" y="67546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13360" y="68644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19960" y="68644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4960" y="67546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16480" y="68644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18440" y="67546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686916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Langage Non Verb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7640" y="68864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68691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p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80000" y="69786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08600" y="68691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13360" y="69786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19960" y="69786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14960" y="68691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216480" y="69786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418440" y="68691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698328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Langue étr. (</a:t>
            </a: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                     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7640" y="70009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69832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80000" y="709308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808600" y="69832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13360" y="70930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19960" y="70930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14960" y="69832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216480" y="70930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18440" y="69832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62520" y="709776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(                       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87640" y="7115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57800" y="70977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80000" y="72072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08600" y="70977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13360" y="72072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519960" y="72072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14960" y="70977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16480" y="72072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18440" y="70977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2520" y="721188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(                       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87640" y="72295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57800" y="72118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80000" y="732168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08600" y="72118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13360" y="73216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519960" y="73216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14960" y="72118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16480" y="73216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18440" y="72118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62520" y="732636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(                       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87640" y="734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57800" y="73263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80000" y="74358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08600" y="73263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13360" y="74358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19960" y="74358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14960" y="73263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16480" y="74358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18440" y="73263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74404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Lire sur les Lèv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87640" y="74581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57800" y="74404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p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80000" y="755028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08600" y="7440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13360" y="75502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519960" y="7550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114960" y="7440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16480" y="75502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18440" y="74404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76564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Mémoriser/se Souven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87640" y="7683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257800" y="76564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80000" y="77756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08600" y="7656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13360" y="7775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19960" y="77756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14960" y="76564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16480" y="7775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18440" y="76564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62520" y="778032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opperplate Gothic BT"/>
              </a:rPr>
              <a:t>Mythe de Cthulh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7640" y="77979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57800" y="778032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—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580000" y="788976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08600" y="77803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13360" y="78897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519960" y="78897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4960" y="77803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216480" y="78897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18440" y="778032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78948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Nager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87640" y="79120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78948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f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80042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808600" y="78948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13360" y="80042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519960" y="80042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14960" y="78948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16480" y="80042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418440" y="78948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62520" y="800892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Nœuds et cor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87640" y="80265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800892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80000" y="811836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08600" y="80089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13360" y="81183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19960" y="81183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14960" y="80089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216480" y="81183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18440" y="800892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580000" y="834696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08600" y="82375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13360" y="83469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19960" y="83469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14960" y="82375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216480" y="83469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18440" y="823752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823752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Piloter (         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7640" y="82551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57800" y="823752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0000" y="84614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808600" y="83520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13360" y="84614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19960" y="84614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14960" y="83520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16480" y="84614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18440" y="83520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83520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Psycholog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87640" y="83692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83520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p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80000" y="857556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08600" y="84661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3360" y="85755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519960" y="85755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14960" y="84661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16480" y="85755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18440" y="846612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846612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Psychanaly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87640" y="84837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846612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0000" y="86900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08600" y="85806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13360" y="86900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519960" y="86900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14960" y="85806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216480" y="86900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18440" y="85806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85806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Répar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7640" y="8597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85806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80000" y="880416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08600" y="86947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13360" y="88041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19960" y="88041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14960" y="86947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216480" y="88041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18440" y="869472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869472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Sauter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87640" y="8712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869472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f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80000" y="89186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808600" y="88092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13360" y="8918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19960" y="89186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14960" y="88092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16480" y="8918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18440" y="88092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62520" y="880920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Scène (            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7640" y="8826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57800" y="88092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p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580000" y="903276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08600" y="89233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913360" y="90327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519960" y="90327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14960" y="89233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216480" y="90327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18440" y="892332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62520" y="892332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Soig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87640" y="89409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57800" y="892332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80000" y="91472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08600" y="90378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913360" y="91472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519960" y="91472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114960" y="90378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216480" y="91472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8440" y="90378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915192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Tours de passe-pa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87640" y="91695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257800" y="915192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87640" y="92851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80000" y="937728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08600" y="926784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13360" y="93772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19960" y="9377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114960" y="926784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216480" y="93772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418440" y="926784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62520" y="457056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se Dégui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7640" y="45878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257800" y="45705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p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80000" y="46800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808600" y="45705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913360" y="46800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519960" y="46800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14960" y="45705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216480" y="46800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418440" y="45705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962520" y="46846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erplate Gothic BT"/>
              </a:rPr>
              <a:t>Démol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87640" y="47023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57800" y="46846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80000" y="47941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08600" y="46846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913360" y="47941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519960" y="47941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14960" y="46846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16480" y="47941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418440" y="46846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90378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Surv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87640" y="90550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257800" y="90378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p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80000" y="926136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08600" y="91519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913360" y="92613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519960" y="92613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114960" y="91519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16480" y="92613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418440" y="915192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997440" y="9381960"/>
            <a:ext cx="1274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40240" y="9381960"/>
            <a:ext cx="15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943600" y="7780320"/>
            <a:ext cx="152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87640" y="9399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80000" y="949176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08600" y="93819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913360" y="94917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519960" y="94917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14960" y="93819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216480" y="94917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18440" y="93819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7640" y="9513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80000" y="960588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808600" y="949644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913360" y="96058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19960" y="96058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114960" y="949644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16480" y="96058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18440" y="949644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97440" y="9496440"/>
            <a:ext cx="1272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997440" y="9610560"/>
            <a:ext cx="1274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40240" y="9496440"/>
            <a:ext cx="15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40240" y="9610560"/>
            <a:ext cx="15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219320" y="5892840"/>
            <a:ext cx="121896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bonus total d’atta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438280" y="5892840"/>
            <a:ext cx="68580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port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124080" y="5892840"/>
            <a:ext cx="76212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cri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124080" y="6045120"/>
            <a:ext cx="7621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438280" y="6045120"/>
            <a:ext cx="6858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19320" y="6045120"/>
            <a:ext cx="4572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320" y="6045120"/>
            <a:ext cx="11430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39760" y="585144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320" y="585144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14480" y="5851440"/>
            <a:ext cx="106668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3080" y="5880240"/>
            <a:ext cx="11462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A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14400" y="6230880"/>
            <a:ext cx="5302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capacit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14400" y="6383160"/>
            <a:ext cx="5302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47920" y="6230880"/>
            <a:ext cx="8380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ty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6383160"/>
            <a:ext cx="8380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6320" y="6230880"/>
            <a:ext cx="8380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dégâ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6320" y="6383160"/>
            <a:ext cx="8380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86000" y="6230880"/>
            <a:ext cx="160020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propriétés spé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86000" y="6383160"/>
            <a:ext cx="16002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7180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048120" y="83059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2408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276720" y="83059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97180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48120" y="83818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83818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05320" y="83059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5760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733920" y="83059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2900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05320" y="83818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5760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733920" y="83818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320" y="8153280"/>
            <a:ext cx="3809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pperplate Gothic BT"/>
              </a:rPr>
              <a:t>muni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845820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6668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4300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83059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37160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06668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14300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19320" y="83818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9528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37160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2388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76520" y="83059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5248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28800" y="8305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52388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60020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76520" y="83818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5248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2880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8458200"/>
            <a:ext cx="92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7180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48120" y="85345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0040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76720" y="85345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7180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48120" y="86104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0040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76720" y="86104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2900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05320" y="85345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58128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65760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33920" y="85345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42900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505320" y="86104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128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65760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33920" y="86104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81080" y="868680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06668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14300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19320" y="85345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9528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7160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6668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14300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219320" y="86104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9528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37160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52388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85345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75248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82880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2388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0020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76520" y="86104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5248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8800" y="8610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6320" y="8686800"/>
            <a:ext cx="92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320" y="8763120"/>
            <a:ext cx="3809880" cy="27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320" y="9220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4240" y="9448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20" y="9677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7400" y="9220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9448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057400" y="9677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886200" y="9618840"/>
            <a:ext cx="289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pple Chancery"/>
              </a:rPr>
              <a:t>Italique: géré par le MJ; </a:t>
            </a:r>
            <a:r>
              <a:rPr b="1" lang="en-US" sz="600" spc="-1" strike="noStrike">
                <a:solidFill>
                  <a:srgbClr val="000000"/>
                </a:solidFill>
                <a:latin typeface="Apple Chancery"/>
              </a:rPr>
              <a:t>gras: compétence innée</a:t>
            </a:r>
            <a:r>
              <a:rPr b="0" lang="en-US" sz="600" spc="-1" strike="noStrike">
                <a:solidFill>
                  <a:srgbClr val="000000"/>
                </a:solidFill>
                <a:latin typeface="Apple Chancery"/>
              </a:rPr>
              <a:t>; </a:t>
            </a:r>
            <a:r>
              <a:rPr b="1" lang="en-US" sz="600" spc="-1" strike="noStrike">
                <a:solidFill>
                  <a:srgbClr val="000000"/>
                </a:solidFill>
                <a:latin typeface="Apple Chancery"/>
              </a:rPr>
              <a:t>*</a:t>
            </a:r>
            <a:r>
              <a:rPr b="0" lang="en-US" sz="600" spc="-1" strike="noStrike">
                <a:solidFill>
                  <a:srgbClr val="000000"/>
                </a:solidFill>
                <a:latin typeface="Apple Chancery"/>
              </a:rPr>
              <a:t>: pénalité d’arm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62520" y="433692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(                       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87640" y="43545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57800" y="433692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80000" y="44467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808600" y="43369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913360" y="4446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519960" y="44467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14960" y="433692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16480" y="4446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18440" y="433692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52280" y="4929120"/>
            <a:ext cx="685800" cy="28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pperplate Gothic BT"/>
              </a:rPr>
              <a:t>CORPS À COR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81080" y="914400"/>
            <a:ext cx="147492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3720" y="2362320"/>
            <a:ext cx="114300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pperplate Gothic BT"/>
              </a:rPr>
              <a:t>id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Copperplate Gothic BT"/>
              </a:rPr>
              <a:t>(mod. intelligenc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133720" y="2666880"/>
            <a:ext cx="114300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pperplate Gothic BT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Copperplate Gothic BT"/>
              </a:rPr>
              <a:t>(mod. pouvoi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33720" y="2971800"/>
            <a:ext cx="114300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pperplate Gothic BT"/>
              </a:rPr>
              <a:t>connaiss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Copperplate Gothic BT"/>
              </a:rPr>
              <a:t>(mod. éduc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70320" y="2395440"/>
            <a:ext cx="3049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70320" y="270036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70320" y="300528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962520" y="812340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s’Ori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7640" y="81406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257800" y="812340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p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580000" y="82328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08600" y="81234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913360" y="82328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519960" y="82328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114960" y="812340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216480" y="82328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418440" y="812340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81080" y="2286000"/>
            <a:ext cx="190512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76520" y="6045120"/>
            <a:ext cx="76176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6667560"/>
            <a:ext cx="121896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bonus total d’atta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438280" y="6667560"/>
            <a:ext cx="68580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port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24080" y="6667560"/>
            <a:ext cx="76212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cri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124080" y="6819840"/>
            <a:ext cx="7621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438280" y="6819840"/>
            <a:ext cx="6858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219320" y="6819840"/>
            <a:ext cx="4572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320" y="6819840"/>
            <a:ext cx="11430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39760" y="662616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20" y="662616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14480" y="6626160"/>
            <a:ext cx="106668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3080" y="6654960"/>
            <a:ext cx="11462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A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676520" y="6819840"/>
            <a:ext cx="76176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219320" y="7446960"/>
            <a:ext cx="121896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bonus total d’atta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38280" y="7446960"/>
            <a:ext cx="68580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port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7446960"/>
            <a:ext cx="76212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cri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7599240"/>
            <a:ext cx="7621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38280" y="7599240"/>
            <a:ext cx="6858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19320" y="7599240"/>
            <a:ext cx="4572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320" y="7599240"/>
            <a:ext cx="11430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139760" y="740556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740556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14480" y="7405560"/>
            <a:ext cx="1066680" cy="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3080" y="7434360"/>
            <a:ext cx="11462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A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76520" y="7599240"/>
            <a:ext cx="76176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83200" y="1981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51160" y="1363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MA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14400" y="7010280"/>
            <a:ext cx="5302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capacit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14400" y="7162920"/>
            <a:ext cx="5302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47920" y="7010280"/>
            <a:ext cx="8380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ty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47920" y="7162920"/>
            <a:ext cx="8380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6320" y="7010280"/>
            <a:ext cx="8380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dégâ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320" y="7162920"/>
            <a:ext cx="8380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286000" y="7010280"/>
            <a:ext cx="160020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propriétés spé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286000" y="7162920"/>
            <a:ext cx="160020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914400" y="7790040"/>
            <a:ext cx="5302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capacit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14400" y="7942320"/>
            <a:ext cx="5302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47920" y="7790040"/>
            <a:ext cx="8380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ty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47920" y="7942320"/>
            <a:ext cx="8380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6320" y="7790040"/>
            <a:ext cx="8380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dégâ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6320" y="7942320"/>
            <a:ext cx="8380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286000" y="7790040"/>
            <a:ext cx="160020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pperplate Gothic BT"/>
              </a:rPr>
              <a:t>propriétés spé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86000" y="7942320"/>
            <a:ext cx="160020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1481040"/>
            <a:ext cx="30456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43000" y="1481040"/>
            <a:ext cx="30492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566720" y="1481040"/>
            <a:ext cx="3049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52280" y="2057400"/>
            <a:ext cx="533520" cy="2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T"/>
              </a:rPr>
              <a:t>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erplate Gothic BT"/>
              </a:rPr>
              <a:t>perce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62520" y="755028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Gothic BT"/>
              </a:rPr>
              <a:t>Marchand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7640" y="75675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57800" y="755028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80000" y="765972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808600" y="75502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913360" y="7659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19960" y="76597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114960" y="755028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216480" y="7659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418440" y="755028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248520" y="7780320"/>
            <a:ext cx="152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553080" y="7780320"/>
            <a:ext cx="15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62520" y="400536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opperplate Gothic BT"/>
              </a:rPr>
              <a:t>(                                    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87640" y="4022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257800" y="40053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580000" y="41148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808600" y="40053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913360" y="41148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519960" y="411480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14960" y="4005360"/>
            <a:ext cx="7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216480" y="41148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418440" y="4005360"/>
            <a:ext cx="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400800" y="1828800"/>
            <a:ext cx="30492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257800" y="1389240"/>
            <a:ext cx="838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pperplate Gothic BT"/>
              </a:rPr>
              <a:t>dégâts tem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248520" y="1558800"/>
            <a:ext cx="45720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130800" y="1389240"/>
            <a:ext cx="727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erplate Gothic BT"/>
              </a:rPr>
              <a:t>vites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454560" y="914400"/>
            <a:ext cx="332712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91440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pperplate Gothic BT"/>
              </a:rPr>
              <a:t>CARACTÉRISTIQ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4876920" y="76320"/>
            <a:ext cx="18558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08:37:21Z</dcterms:created>
  <dc:creator>Raphaël DELCROIX</dc:creator>
  <dc:description/>
  <dc:language>en-US</dc:language>
  <cp:lastModifiedBy>Raphaël DELCROIX</cp:lastModifiedBy>
  <cp:lastPrinted>2003-02-28T13:45:03Z</cp:lastPrinted>
  <dcterms:modified xsi:type="dcterms:W3CDTF">2003-02-28T16:23:13Z</dcterms:modified>
  <cp:revision>14</cp:revision>
  <dc:subject/>
  <dc:title>Présentation PowerPoint</dc:title>
</cp:coreProperties>
</file>