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3258-F1C2-4B18-9AE3-78E890DF4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EC28-058D-47FF-949F-8AB77E2C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CA78-FFCD-4789-AA47-21247DF3A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395D-C126-45A8-B0AF-AB79B2915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6C14-5D81-4426-BDEB-44D1CE24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12B4-BD14-4084-B530-1493B662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81AC-3C02-4320-8000-AF9283C4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47EC-B707-4CBD-89A8-4D2D5EDD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A1B9-92B3-4A37-8C4C-89ADFA5D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928C-FB52-468A-BC3F-C3400739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D912-F9B5-45F9-9983-1FEB854D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73B4-5815-4D40-B07B-FDB38BD8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6237-61AD-4CBA-9125-E6EC50F51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g_logo" descr=""/>
          <p:cNvPicPr/>
          <p:nvPr/>
        </p:nvPicPr>
        <p:blipFill>
          <a:blip r:embed="rId1"/>
          <a:stretch/>
        </p:blipFill>
        <p:spPr>
          <a:xfrm>
            <a:off x="0" y="0"/>
            <a:ext cx="831960" cy="99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0"/>
            <a:ext cx="5867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om ______________________________________ Profession 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exe _____ Age _____ Nationalité 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coles/Diplômes 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ffiliation ______________________________ Nom de code 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3809880" cy="52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etter Gothic"/>
              </a:rPr>
              <a:t>CARACTERISTIQUES DE L’INVESTIGAT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3809880" cy="1523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295280"/>
            <a:ext cx="37339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FOR _____  DEX _____  INT _____  Idée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CON _____  APP _____  POU _____  Chance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TAI _____  SAN _____  EDU _____  Connais.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Bonus aux dommages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Date actuelle __/__/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9880" y="990720"/>
            <a:ext cx="1524240" cy="52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etter Gothic"/>
              </a:rPr>
              <a:t>POINTS DE MAG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990720"/>
            <a:ext cx="1524240" cy="1523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990720"/>
            <a:ext cx="1523880" cy="1523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990720"/>
            <a:ext cx="1523880" cy="52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etter Gothic"/>
              </a:rPr>
              <a:t>POINTS DE V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990720"/>
            <a:ext cx="0" cy="30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990720"/>
            <a:ext cx="0" cy="30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1295280"/>
            <a:ext cx="38124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295280"/>
            <a:ext cx="38124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1295280"/>
            <a:ext cx="38124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1295280"/>
            <a:ext cx="38124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295280"/>
            <a:ext cx="38124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1295280"/>
            <a:ext cx="38124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1295280"/>
            <a:ext cx="38088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1295280"/>
            <a:ext cx="38088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1295280"/>
            <a:ext cx="38088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1295280"/>
            <a:ext cx="38088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1295280"/>
            <a:ext cx="38088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77120" y="1295280"/>
            <a:ext cx="38088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514600"/>
            <a:ext cx="6858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etter Gothic"/>
              </a:rPr>
              <a:t>SANTE MENTALE ET FOL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819520"/>
            <a:ext cx="6858000" cy="1218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81952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(99 - Mythe de Cthulhu =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819520"/>
            <a:ext cx="3808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8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2819520"/>
            <a:ext cx="3808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8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2819520"/>
            <a:ext cx="3808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2819520"/>
            <a:ext cx="3808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2819520"/>
            <a:ext cx="3808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2819520"/>
            <a:ext cx="3808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2819520"/>
            <a:ext cx="3808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6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9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2819520"/>
            <a:ext cx="3808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91120" y="2819520"/>
            <a:ext cx="3808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9720" y="2819520"/>
            <a:ext cx="3808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6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48320" y="2819520"/>
            <a:ext cx="3808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6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920" y="2819520"/>
            <a:ext cx="3808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05520" y="2819520"/>
            <a:ext cx="3808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2819520"/>
            <a:ext cx="3808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62720" y="2819520"/>
            <a:ext cx="3808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19520"/>
            <a:ext cx="3808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2819520"/>
            <a:ext cx="3808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7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48520" y="2819520"/>
            <a:ext cx="3808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7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2819520"/>
            <a:ext cx="3808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3048120"/>
            <a:ext cx="3808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3048120"/>
            <a:ext cx="3808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3048120"/>
            <a:ext cx="3808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8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3048120"/>
            <a:ext cx="3808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8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3048120"/>
            <a:ext cx="3808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3048120"/>
            <a:ext cx="3808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8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3048120"/>
            <a:ext cx="3808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3048120"/>
            <a:ext cx="3808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7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3048120"/>
            <a:ext cx="3808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7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3048120"/>
            <a:ext cx="3808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7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718080"/>
            <a:ext cx="68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hobies ____________________________________ Folies 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038480"/>
            <a:ext cx="6858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etter Gothic"/>
              </a:rPr>
              <a:t>COMPETENCES DE L’INVESTIGAT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343400"/>
            <a:ext cx="3124080" cy="54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Anthropologie (00%)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Archéologie (00%)  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Architecture (00%) 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Art (05%): __________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Arts martiaux (00%)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Astronomie (00%)   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Baratin (05%)      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Bateau (10%)       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Bibliothèque (25%) 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Biologie (00%)     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Botanique (00%)    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Cartographie (00%) 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Charpente/Menuiserie (10%)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Chimie (00%)       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Chirurgie (00%)    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Comptabilité (10%) 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Conduire automobile (20%)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Contrefaçon (00%)  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Crédit (15%)       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Criminologie (00%) 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Cryptographie (00%)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Déguisement (05%)  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Discrétion (10%)   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Dissimulation (15%)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Droit (05%)        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Ecouter (25%)      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Electricité (10%)  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Electronique (00%) 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Equitation (05%)   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Esquive (DEXx2%)   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Explosifs (00%)    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Géologie (00%)     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Grimper (40%)      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Histoire (20%)     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Histoire naturelle (10%)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4343400"/>
            <a:ext cx="3200400" cy="54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Hypnose (00%)      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Informatique (00%) 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Lancer (25%)       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Langue étrangère (00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_________________  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_________________  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Langue maternelle (EDUx5%)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Marchandage (05%)  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Mathématiques (10%)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Mécanique (20%)    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Médecine (05%)     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Mythe de Cthulhu (00%)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Nager (25%)        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Navigation (Terre) (10%)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Navigation (Air/Mer) (00%)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Occultisme (05%)   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Parachute (00%)    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Persuasion (15%)   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Pharmacologie (00%)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Photographie (10%) 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Physique (00%)     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Piloter un engin lourd (00%)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Piloter (00%): __________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Plongée (00%)      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Premiers Soins (30%)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Psychanalyse (00%) 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Psychologie (05%)  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Sauter (25%)       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Science militaire (00%)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Se cacher (10%)    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Serrurerie (00%)   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Suivre une piste (10%)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Trouver Objet Caché (25%)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Voile (00%)        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Zoologie (00%)               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429000" y="4343400"/>
            <a:ext cx="0" cy="556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352680" y="3352680"/>
            <a:ext cx="3505320" cy="1752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6858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etter Gothic"/>
              </a:rPr>
              <a:t>COMPETENCES DE COMB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04920"/>
            <a:ext cx="22860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r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33720" y="304920"/>
            <a:ext cx="6094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i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304920"/>
            <a:ext cx="914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%Atta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304920"/>
            <a:ext cx="914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mpa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304920"/>
            <a:ext cx="914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omm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304920"/>
            <a:ext cx="6098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5000" y="304920"/>
            <a:ext cx="10666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uni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/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/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/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/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/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/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04920"/>
            <a:ext cx="6858000" cy="1295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600200"/>
            <a:ext cx="6858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etter Gothic"/>
              </a:rPr>
              <a:t>EQUIP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905120"/>
            <a:ext cx="6858000" cy="1447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905120"/>
            <a:ext cx="335268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1905120"/>
            <a:ext cx="335268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352680"/>
            <a:ext cx="335268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etter Gothic"/>
              </a:rPr>
              <a:t>REVENUS ET BIE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352680"/>
            <a:ext cx="3352680" cy="1752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52680" y="3352680"/>
            <a:ext cx="350532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etter Gothic"/>
              </a:rPr>
              <a:t>INFORMATIONS PERSONNEL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3352680"/>
            <a:ext cx="0" cy="304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657600"/>
            <a:ext cx="335268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venus   _____ $       Liquidité _____ $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conomies _____ $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iens personnels 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52680" y="3657600"/>
            <a:ext cx="350532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ieu de résidence 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scription 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amille et amis 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5105520"/>
            <a:ext cx="6858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etter Gothic"/>
              </a:rPr>
              <a:t>HISTOIRE DE L’INVESTIGAT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5410080"/>
            <a:ext cx="6858000" cy="1524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5410080"/>
            <a:ext cx="335268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05320" y="5410080"/>
            <a:ext cx="335268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34320"/>
            <a:ext cx="6858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etter Gothic"/>
              </a:rPr>
              <a:t>OBJETS MAGIQUES / SORTILEGES CONNUS / CREATURES DU MY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238880"/>
            <a:ext cx="335268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05320" y="7238880"/>
            <a:ext cx="335268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0T15:27:56Z</dcterms:created>
  <dc:creator>JeePee</dc:creator>
  <dc:description/>
  <dc:language>en-US</dc:language>
  <cp:lastModifiedBy>JeePee</cp:lastModifiedBy>
  <cp:lastPrinted>2001-04-29T09:53:28Z</cp:lastPrinted>
  <dcterms:modified xsi:type="dcterms:W3CDTF">2001-04-29T09:54:33Z</dcterms:modified>
  <cp:revision>44</cp:revision>
  <dc:subject/>
  <dc:title>Aucun titre de diapositive</dc:title>
</cp:coreProperties>
</file>